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6172-830B-4244-AE23-672F1196B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6764-1243-402F-990B-A9694B57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FFF0-964F-4AFA-A355-6737A2541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F857-4383-49DD-806F-7473CFD02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8636-3658-459D-8CB2-5DCAEFAA0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38FA-F119-4862-BAE4-7A2E91A6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932E-2A93-4301-8F22-2BFB0423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E258-28ED-42CF-A593-441F6D2A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E7D6-6F8D-45BE-A5FB-B144EA6F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5EBD-3E60-46CF-98FD-8D410D61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3E18-7FD4-4F38-BF44-7456AAF1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DB5B-9212-42FE-A590-65B96D94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370C-D209-4510-AFB7-C317644E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6094-AB49-4400-8259-26CCBB45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96AD4-56EC-466D-82AE-1FF9D345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8721-DDA1-4D21-962E-BA82DF437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B8B7-BEA4-4955-BD3B-4089E314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7ABF-4D38-4704-842F-0FE687B9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0A3A-3437-4539-B353-41DFDAC1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30D9-BD28-4BFA-B8FA-F60E0F31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E37F-7DA1-4CAD-8368-712C6D03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208C-0BA5-46CF-98B2-308B0456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A738-E549-427F-855B-421463BE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FE0B-A8C5-48E9-B69E-683EF5A9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493C-E14E-4816-A733-E42DA9C4284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FB86-A4E4-4BFC-8500-352E4A0906D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Microteach 2 Lesson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14400" y="1904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teractive lesson – it is to be anything but a direct teach. Should include much student involvemen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Exampl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 Debates, simulations, problem solving, discussion, creating something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structional materials should be us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lude one labeled ESOL accommodatio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lude three labeled CONVERGENT QUESTIONS and three labeled DIVERGENT QUESTIONS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ring a rough draft to class next week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f you would like, you can make modifications to your Microteach I lesson to make it more interactiv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Challeng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 Create a scale for your lesson AND post your learning goal at the front of your microteach classroom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2" name="Content Placeholder 3" descr="Microteach 2 Lesson Plan template.png"/>
          <p:cNvPicPr/>
          <p:nvPr/>
        </p:nvPicPr>
        <p:blipFill>
          <a:blip r:embed="rId1"/>
          <a:srcRect l="-59279" t="0" r="-59279" b="0"/>
          <a:stretch/>
        </p:blipFill>
        <p:spPr>
          <a:xfrm>
            <a:off x="-1371600" y="0"/>
            <a:ext cx="12573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4" name="Content Placeholder 3" descr="sample plan - p. 1.png"/>
          <p:cNvPicPr/>
          <p:nvPr/>
        </p:nvPicPr>
        <p:blipFill>
          <a:blip r:embed="rId1"/>
          <a:srcRect l="-67456" t="0" r="-67456" b="0"/>
          <a:stretch/>
        </p:blipFill>
        <p:spPr>
          <a:xfrm>
            <a:off x="-1803240" y="0"/>
            <a:ext cx="12699720" cy="6927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6" name="Content Placeholder 3" descr="sample plan - p. 2.png"/>
          <p:cNvPicPr/>
          <p:nvPr/>
        </p:nvPicPr>
        <p:blipFill>
          <a:blip r:embed="rId1"/>
          <a:srcRect l="-69228" t="0" r="-69228" b="0"/>
          <a:stretch/>
        </p:blipFill>
        <p:spPr>
          <a:xfrm>
            <a:off x="-1600200" y="0"/>
            <a:ext cx="12573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3:25:38Z</dcterms:created>
  <dc:creator> </dc:creator>
  <dc:description/>
  <dc:language>en-US</dc:language>
  <cp:lastModifiedBy>Karen Verkler</cp:lastModifiedBy>
  <cp:lastPrinted>2013-10-06T12:59:47Z</cp:lastPrinted>
  <dcterms:modified xsi:type="dcterms:W3CDTF">2013-10-10T08:09:06Z</dcterms:modified>
  <cp:revision>333</cp:revision>
  <dc:subject/>
  <dc:title>Slide 1</dc:title>
</cp:coreProperties>
</file>